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8.png" ContentType="image/png"/>
  <Override PartName="/ppt/media/image12.png" ContentType="image/png"/>
  <Override PartName="/ppt/media/image7.wmf" ContentType="image/x-wmf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1639-5697-432F-99DF-BE6B724F7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564A-E5F2-46C0-A608-CBD09B1AF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CBB1-6818-4D9F-8001-133735FF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9740-0A2D-4A08-ABB9-9D586896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7344-C28E-4C8F-B875-D313F1D60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AB10-2E16-4807-A214-BC876E689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C752-583E-4D40-9756-E5EFD748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7741-AC14-4176-88C6-EFBC9800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264B-B43F-435C-B8E3-3FA4F721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F9F1-EB4A-4EF9-91B7-04AE0AC8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6880-6D07-40FE-8CC4-EF50D8C4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A1E7-17C8-418B-8FE6-DE79F28D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7024-1897-4F06-A55B-BDAD510C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48AF-FFA2-49FB-9AAA-573DD5EF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AA6D-B740-4055-9756-C44E171E7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rt_museum.jpg"/>
          <p:cNvPicPr/>
          <p:nvPr/>
        </p:nvPicPr>
        <p:blipFill>
          <a:blip r:embed="rId2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3"/>
          <a:stretch/>
        </p:blipFill>
        <p:spPr>
          <a:xfrm>
            <a:off x="2816280" y="2279520"/>
            <a:ext cx="3511440" cy="40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lick_Lensington-SUIT.gif"/>
          <p:cNvPicPr/>
          <p:nvPr/>
        </p:nvPicPr>
        <p:blipFill>
          <a:blip r:embed="rId4"/>
          <a:stretch/>
        </p:blipFill>
        <p:spPr>
          <a:xfrm>
            <a:off x="2209680" y="4273560"/>
            <a:ext cx="60984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52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Central Asi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8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61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64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Central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6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7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2" descr="C:\Documents and Settings\cstocke\Local Settings\Temporary Internet Files\Content.IE5\CHEN8LIR\MCj03978360000[1].wmf"/>
          <p:cNvPicPr/>
          <p:nvPr/>
        </p:nvPicPr>
        <p:blipFill>
          <a:blip r:embed="rId4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Rectangle 2"/>
          <p:cNvGrpSpPr/>
          <p:nvPr/>
        </p:nvGrpSpPr>
        <p:grpSpPr>
          <a:xfrm>
            <a:off x="2743200" y="378000"/>
            <a:ext cx="4724280" cy="768240"/>
            <a:chOff x="2743200" y="378000"/>
            <a:chExt cx="4724280" cy="768240"/>
          </a:xfrm>
        </p:grpSpPr>
        <p:pic>
          <p:nvPicPr>
            <p:cNvPr id="76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7242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743200" y="380880"/>
              <a:ext cx="4724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Central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8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8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4" descr="C:\Documents and Settings\cstocke\Local Settings\Temporary Internet Files\Content.IE5\85YZK9Q3\MCSO01874_0000[1].wmf"/>
          <p:cNvPicPr/>
          <p:nvPr/>
        </p:nvPicPr>
        <p:blipFill>
          <a:blip r:embed="rId4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2"/>
          <p:cNvGrpSpPr/>
          <p:nvPr/>
        </p:nvGrpSpPr>
        <p:grpSpPr>
          <a:xfrm>
            <a:off x="2743200" y="378000"/>
            <a:ext cx="4724280" cy="768240"/>
            <a:chOff x="2743200" y="378000"/>
            <a:chExt cx="4724280" cy="768240"/>
          </a:xfrm>
        </p:grpSpPr>
        <p:pic>
          <p:nvPicPr>
            <p:cNvPr id="88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47242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743200" y="380880"/>
              <a:ext cx="4724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Central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9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9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4" descr="C:\Documents and Settings\cstocke\Local Settings\Temporary Internet Files\Content.IE5\AZWRAVGT\MCj03978380000[1].wmf"/>
          <p:cNvPicPr/>
          <p:nvPr/>
        </p:nvPicPr>
        <p:blipFill>
          <a:blip r:embed="rId3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Rectangle 2"/>
          <p:cNvGrpSpPr/>
          <p:nvPr/>
        </p:nvGrpSpPr>
        <p:grpSpPr>
          <a:xfrm>
            <a:off x="2743200" y="378000"/>
            <a:ext cx="4724280" cy="768240"/>
            <a:chOff x="2743200" y="378000"/>
            <a:chExt cx="4724280" cy="768240"/>
          </a:xfrm>
        </p:grpSpPr>
        <p:pic>
          <p:nvPicPr>
            <p:cNvPr id="100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47242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743200" y="380880"/>
              <a:ext cx="4724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Central As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0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08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7:32:06Z</dcterms:created>
  <dc:creator>Candy Stocker</dc:creator>
  <dc:description/>
  <dc:language>en-US</dc:language>
  <cp:lastModifiedBy>Candy Stocker</cp:lastModifiedBy>
  <dcterms:modified xsi:type="dcterms:W3CDTF">2011-08-09T15:09:53Z</dcterms:modified>
  <cp:revision>118</cp:revision>
  <dc:subject/>
  <dc:title>Museum of World Stuff</dc:title>
</cp:coreProperties>
</file>